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E94-6A9F-4F5B-96AF-98D12125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C9F-D3D5-4253-A69F-FAED280C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167-0F4A-41FE-A50E-3580EC42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0ED-EC37-45AA-8295-6B846289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2B0-C0C1-4326-993C-EE0AD85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CD0-7B1C-4DBA-AF9A-3E9B790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F09-A262-4652-9CB1-E08B3920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CC6-DD39-4079-8E03-8E43E58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2699-0735-4AAB-9266-129C5867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6F2D-E47D-45BF-8929-17CA3368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41FC-122B-42B0-8A23-A8DF9E3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71F-29AA-46B1-BD66-B4CD6D0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CC09-58AB-4B81-8237-82722A2D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513-17B7-48C9-9FC6-C8545F1C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1D74-2FDA-41E3-B6EE-A1C6BF6C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BD89-C7E6-4A82-9634-63D5E264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25E2-FADB-4BD6-B527-24B3571A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0CF-12DE-465F-A583-F9C91734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7F8-E65C-497A-8576-42ED1950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C09-315D-4C4C-AC92-02B4565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BE1-86BA-4F17-B0B6-01E7EF9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101-1243-40E9-B37A-AB6D503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2CA-FC3D-4B2D-80CD-A0EE1B8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33C-E1DE-4E90-B0E2-A2E7AB8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443C-E027-48EA-95DA-4F80F35AD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546-CFC0-430E-B2B4-3BABE3096E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ds.yahoo.com/_ylt=A0WTb_otqAlJ_bYAV5mJzbkF;_ylu=X3oDMTBxdnQ1aDV2BHBvcwMxMARzZWMDc3IEdnRpZANJOTk5Xzcz/SIG=1ia5vuumt/EXP=1225456045/**http%3A//images.search.yahoo.com/images/view%3Fback=http%253A%252F%252Fimages.search.yahoo.com%252Fsearch%252Fimages%253Fp%253DMap%252Bof%252BMozambique%2526fr%253Dyfp-t-501%2526ei%253Dutf-8%2526x%253Dwrt%26w=360%26h=461%26imgurl=mooreslore.corante.com%252Farchives%252Fimages%252Fmap.mozambique.maputo.jpg%26rurl=http%253A%252F%252Fmooreslore.corante.com%252Farchives%252Fimages%253FN%253DD%26size=71.1kB%26name=map.mozambique.maputo.jpg%26p=Map%2Bof%2BMozambique%26type=JPG%26oid=83b4665a43beeda4%26no=10%26tt=4,603%26sigr=11hrm38d8%26sigi=1208l1eve%26sigb=12sepv1vh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en.wikipedia.org/" TargetMode="External"/><Relationship Id="rId3" Type="http://schemas.openxmlformats.org/officeDocument/2006/relationships/hyperlink" Target="http://www.state.gov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Bauhaus 93"/>
              </a:rPr>
              <a:t>Mozamb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uhaus 93"/>
              </a:rPr>
              <a:t>By: Mary Beth Ber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148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Mozambiq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ozambique is a country in southeastern Africa bordered by the Indian Ocean to the East. Some of it’s relative locations are Tanzania, Malawi, Zambia, Zimbabwe, Swaziland, and South Af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ritannic Bold"/>
              </a:rPr>
              <a:t>Relative Locations Ma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Map of Mozambique"/>
          <p:cNvPicPr/>
          <p:nvPr/>
        </p:nvPicPr>
        <p:blipFill>
          <a:blip r:embed="rId1"/>
          <a:stretch/>
        </p:blipFill>
        <p:spPr>
          <a:xfrm>
            <a:off x="5410080" y="1905120"/>
            <a:ext cx="259092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1981080"/>
            <a:ext cx="2362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ritannic Bold"/>
              </a:rPr>
              <a:t>Major Historical Ev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On February 2, 2005 Armando Guebuza was inaugurated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ozambique got independence from Portugal on June 25, 1975 after being controlled by them for almost five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Mozambique was colonized by Portugal in 150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ritannic Bold"/>
              </a:rPr>
              <a:t>Mozambique Quick Fa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Language: Portugu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Population: 21,284,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Religion: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Capital: Map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ritannic Bold"/>
              </a:rPr>
              <a:t>Independence Day: June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Cultural Activ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uhaus 93"/>
              </a:rPr>
              <a:t>The people in Mozambique do many cultural activities like performing a traditional dance at cultural exhi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auhaus 93"/>
              </a:rPr>
              <a:t>The people doing there traditional cultural 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Future Of Mozambiq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uhaus 93"/>
              </a:rPr>
              <a:t>I think that the people of Mozambique will go on to be a successful country because they have a very strong leader that will help them make the right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44960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Bauhaus 93"/>
              </a:rPr>
              <a:t>Bibliograph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Bauhaus 93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Bauhaus 93"/>
                <a:hlinkClick r:id="rId2"/>
              </a:rPr>
              <a:t>http://en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Bauhaus 93"/>
                <a:hlinkClick r:id="rId3"/>
              </a:rPr>
              <a:t>www.state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2:34:12Z</dcterms:created>
  <dc:creator>maryberry</dc:creator>
  <dc:description/>
  <dc:language>en-US</dc:language>
  <cp:lastModifiedBy>maryberry</cp:lastModifiedBy>
  <dcterms:modified xsi:type="dcterms:W3CDTF">2008-10-31T12:43:20Z</dcterms:modified>
  <cp:revision>5</cp:revision>
  <dc:subject/>
  <dc:title>Mozambique</dc:title>
</cp:coreProperties>
</file>